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DF4-F36F-473A-9FE3-6F20C5F5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E4F-0583-4C8F-A272-68472C56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F70-B947-438F-93DE-1CFFD504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C8E-2DFF-4246-8AE8-49084D30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F7E-DC49-4C10-B6E8-F8C4C895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3D3-CCA2-4582-9666-459BA9EC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83A-3A80-41D6-A404-BBF38510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066-5936-4DB8-A6D6-85D3510B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2ED-3D9B-4D23-A96B-DFBE8350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862-8F50-4BBF-B9D1-43A27D6B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427E-A861-418B-84B8-EFF66BFF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57B-18FC-4BC6-8D50-B45B905E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15EF-4801-4F23-8C35-0613716225A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sledges did Robert Scott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sledges were th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they eat well or bad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the return successful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3810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wegia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n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 ,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ted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43400" y="990360"/>
            <a:ext cx="4114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e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ful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4-02T05:12:48Z</dcterms:modified>
  <cp:revision>8</cp:revision>
  <dc:subject/>
  <dc:title>عرض تقديمي من PowerPoint</dc:title>
</cp:coreProperties>
</file>